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A99-B4E6-4085-9E89-B2B4DCEE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C06-6D97-416E-A91B-6133A425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71C-DB7A-4BB4-98AF-33A9F8AF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4048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480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7652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4048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480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975-9067-484F-BCE3-40C027F5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50E0-E1C2-496F-9E2B-70E1C545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0DE1-7750-4A08-95BC-9806C9D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8CC-487D-4C88-8E33-EEF33CF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F2E-8DB5-461F-9717-EDDA9A5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75CD-3246-418F-81F1-1C64FC0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8443-9EA1-4FF8-BA98-8428977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F17F-7EFB-43EC-822D-1A1B4571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6EF-115A-44AC-9A70-821FA05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56D8-8B19-4F02-B3C0-D4BF332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D5A-6EC7-456F-B576-287D8AB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3347-B796-4B74-AB77-5A85EB0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67A0-BB76-4001-8947-FCFFA497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048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04800" y="4572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67652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4048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04800" y="5487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102B-FD08-4B5C-BED8-43720339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710-2E85-4F93-99E9-110CCDD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D90-5DCA-4DE6-B325-A7D68E78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DBB-8D35-4A88-870D-BC4D182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B3B-E62C-413A-90A7-4410D6A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3F3-E0D2-49A0-A0A2-FC81C9C8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6480" y="5487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C6D-0B4C-4E8E-B171-E5B3C9B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6480" y="4572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5487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B2E-2A1D-4DDE-96D6-6E2537F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1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2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18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AEC-20B8-4928-B829-E8815B6054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78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79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318-105A-457F-A210-6ADC589FA0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54Z</dcterms:modified>
  <cp:revision>8</cp:revision>
  <dc:subject/>
  <dc:title>幻灯片 1</dc:title>
</cp:coreProperties>
</file>